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CFEB-9699-4FD1-BCCE-96C3CFF45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1EF7-DBAE-4640-8A30-A6C0FFB48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3CA0-7F8F-4032-BA23-910398AE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CF7A-6BB4-4137-95BA-FC6ED1971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5CE0E-27E4-48E7-A462-E90BF6C8B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537E-441E-4713-BDEE-F3132E04D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2D14-29CC-4F26-AFC9-BAC1EFB5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F3A53-59AB-49C9-86D4-F5376AC69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EBE7-D471-4DCE-A741-2433968E2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DD044-3404-4D2C-8585-18BC1439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D3A71-D5DA-4344-9418-AC394555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1709-2BFD-412C-B8EA-2EDB63BD4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50FD2-B2D8-4921-AA0F-A80F14AE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CBE1-7FA4-4EFD-93BB-9DEA31A2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C46F-5317-4A6C-A271-EA8028A58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3BE9A-A026-44DF-A6B1-DA7C51BE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B6A39-A346-4186-A62F-0489212E6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58F7-6480-4C91-A640-4B3F7DDD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C564-A456-4139-8F0E-3E3111B87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2333-1C4A-40AB-846B-F93FBDF9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9CC-9E28-4592-8894-135253F42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660-EBEC-4F9B-A55E-396E3445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6B3C-C102-4BED-8EF0-1271B7AEB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CC576-69B5-494E-88AA-56AAA6116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4E75-0206-46FD-8877-BB392F83FFA7}" type="slidenum"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854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8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8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8FC67-6D27-4779-AA8F-CC7BAC71D9EC}" type="slidenum">
              <a:rPr b="0" lang="en-US" sz="1400" spc="-1" strike="noStrike">
                <a:solidFill>
                  <a:srgbClr val="000080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0080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8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80"/>
              </a:buClr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28540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80"/>
                </a:solidFill>
                <a:latin typeface="Times New Roman"/>
              </a:rPr>
              <a:t>Spreadsheet &amp; Best Practice Strategies</a:t>
            </a:r>
            <a:br>
              <a:rPr sz="4800"/>
            </a:br>
            <a:endParaRPr b="0" lang="en-US" sz="48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267080"/>
            <a:ext cx="6400800" cy="1371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rebuchet MS"/>
              </a:rPr>
              <a:t>Strategies that Promote Maximum Student Learning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2" marL="110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1.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Identifying similarities and differences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2. Summarizing and note taking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3. Reinforcing effort and providing recognition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4. Homework and practice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5. Nonlinguistic representations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6. Cooperative learning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7. Setting objectives and providing feedback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8. Generating and testing hypotheses</a:t>
            </a:r>
            <a:br>
              <a:rPr sz="2800"/>
            </a:b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9. Cues, questions, and advance organizers</a:t>
            </a:r>
            <a:br>
              <a:rPr sz="2000"/>
            </a:b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1.  Identifying similarities and differences</a:t>
            </a:r>
            <a:br>
              <a:rPr sz="4400"/>
            </a:b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pplications: </a:t>
            </a:r>
            <a:br>
              <a:rPr sz="2000"/>
            </a:b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  <a:p>
            <a:pPr lvl="2" marL="114300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Charts to compare and contrast items.</a:t>
            </a: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lvl="2" marL="114300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Engage students in comparing, classifying, and creating metaphors and analogies about the data used in Spreadsheet.</a:t>
            </a: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2.  Summarizing and note taking</a:t>
            </a:r>
            <a:br>
              <a:rPr sz="4400"/>
            </a:b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0000"/>
          </a:bodyPr>
          <a:p>
            <a:pPr lvl="2" marL="102852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pplications:</a:t>
            </a: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marL="3085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000080"/>
                </a:solidFill>
                <a:latin typeface="Times New Roman"/>
              </a:rPr>
              <a:t>According to research, this requires substituting, deleting, keeping some things, and having an awareness of the basic structure of the information presented.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</a:rPr>
              <a:t>When students are finding information and creating a spreadsheet they must choose to summarize the information for example when creating a spreadsheet of civil war deaths students must summarize information by analyzing it decide what to include in spreadsheet. </a:t>
            </a: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3. Reinforcing Effort and Providing Recognition</a:t>
            </a:r>
            <a:br>
              <a:rPr sz="4400"/>
            </a:b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pplications: </a:t>
            </a:r>
            <a:br>
              <a:rPr sz="1800"/>
            </a:br>
            <a:endParaRPr b="0" lang="en-US" sz="4000" spc="-1" strike="noStrike">
              <a:solidFill>
                <a:srgbClr val="000080"/>
              </a:solidFill>
              <a:latin typeface="Trebuchet MS"/>
            </a:endParaRPr>
          </a:p>
          <a:p>
            <a:pPr lvl="2" marL="114300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r>
              <a:rPr b="0" lang="en-US" sz="28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Have students keep a log of their weekly efforts and achievements, reflect on it periodically, and even mathematically analyze the data using spreadsheet.</a:t>
            </a: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lvl="2" marL="114300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609480"/>
            <a:ext cx="8458200" cy="1067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5. Nonlinguistic Representations</a:t>
            </a:r>
            <a:br>
              <a:rPr sz="4400"/>
            </a:b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lvl="2" marL="114300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pplications: </a:t>
            </a:r>
            <a:br>
              <a:rPr sz="1800"/>
            </a:br>
            <a:endParaRPr b="0" lang="en-US" sz="4000" spc="-1" strike="noStrike">
              <a:solidFill>
                <a:srgbClr val="000080"/>
              </a:solidFill>
              <a:latin typeface="Trebuchet MS"/>
            </a:endParaRPr>
          </a:p>
          <a:p>
            <a:pPr lvl="2" marL="114300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r>
              <a:rPr b="0" lang="en-US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tudents represent learning such as creating charts and graphs with data.</a:t>
            </a:r>
            <a:br>
              <a:rPr sz="4000"/>
            </a:br>
            <a:endParaRPr b="0" lang="en-US" sz="4000" spc="-1" strike="noStrike">
              <a:solidFill>
                <a:srgbClr val="00008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6. Cooperative Learning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97000"/>
          </a:bodyPr>
          <a:p>
            <a:pPr lvl="2" marL="110844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pplications: </a:t>
            </a:r>
            <a:br>
              <a:rPr sz="1800"/>
            </a:br>
            <a:endParaRPr b="0" lang="en-US" sz="4000" spc="-1" strike="noStrike">
              <a:solidFill>
                <a:srgbClr val="000080"/>
              </a:solidFill>
              <a:latin typeface="Trebuchet MS"/>
            </a:endParaRPr>
          </a:p>
          <a:p>
            <a:pPr lvl="2" marL="110844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</a:t>
            </a:r>
            <a:r>
              <a:rPr b="0" lang="en-US" sz="36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tudents may use Spreadsheet when researching and compiling data for group projects.</a:t>
            </a: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8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8. Testing and Generating Hypotheses</a:t>
            </a:r>
            <a:endParaRPr b="0" lang="en-US" sz="4400" spc="-1" strike="noStrike">
              <a:solidFill>
                <a:srgbClr val="000080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ffffff">
                <a:alpha val="75000"/>
              </a:srgbClr>
            </a:outerShdw>
          </a:effectLst>
        </p:spPr>
        <p:txBody>
          <a:bodyPr lIns="90000" rIns="90000" tIns="46800" bIns="46800" anchor="t">
            <a:normAutofit fontScale="87000"/>
          </a:bodyPr>
          <a:p>
            <a:pPr lvl="2" marL="99432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Applications: </a:t>
            </a:r>
            <a:br>
              <a:rPr sz="1800"/>
            </a:br>
            <a:endParaRPr b="0" lang="en-US" sz="4000" spc="-1" strike="noStrike">
              <a:solidFill>
                <a:srgbClr val="000080"/>
              </a:solidFill>
              <a:latin typeface="Trebuchet MS"/>
            </a:endParaRPr>
          </a:p>
          <a:p>
            <a:pPr lvl="2" marL="994320" indent="0">
              <a:lnSpc>
                <a:spcPct val="90000"/>
              </a:lnSpc>
              <a:spcBef>
                <a:spcPts val="1363"/>
              </a:spcBef>
              <a:spcAft>
                <a:spcPts val="1363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   </a:t>
            </a:r>
            <a:r>
              <a:rPr b="0" lang="en-US" sz="4000" spc="-1" strike="noStrike">
                <a:solidFill>
                  <a:srgbClr val="000080"/>
                </a:solidFill>
                <a:latin typeface="Times New Roman"/>
                <a:ea typeface="Times New Roman"/>
              </a:rPr>
              <a:t>Students may create a formula, make a hypothesis, and test the formula.</a:t>
            </a:r>
            <a:br>
              <a:rPr sz="40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4000" spc="-1" strike="noStrike">
              <a:solidFill>
                <a:srgbClr val="000080"/>
              </a:solidFill>
              <a:latin typeface="Trebuchet MS"/>
            </a:endParaRPr>
          </a:p>
          <a:p>
            <a:pPr marL="2984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8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1T18:49:13Z</dcterms:created>
  <dc:creator>CMCSS</dc:creator>
  <dc:description/>
  <dc:language>en-US</dc:language>
  <cp:lastModifiedBy>CMCSS</cp:lastModifiedBy>
  <dcterms:modified xsi:type="dcterms:W3CDTF">2010-06-22T12:01:59Z</dcterms:modified>
  <cp:revision>1</cp:revision>
  <dc:subject/>
  <dc:title>Spreadsheet &amp; Best Practice Strategies </dc:title>
</cp:coreProperties>
</file>